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F8F-A112-47B9-8E11-A67E7A1A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F0D-C952-4754-9CB5-DAA99F1C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A54-DBF1-41F7-8C72-13B11921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E0E-413F-4637-AA2F-96304366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384-8A21-408B-96CC-DB43EC1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ACA-4A4A-46B8-9869-87671A5A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854-AEDC-40E2-8865-82B315B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3A5-8091-4890-8601-317AE96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73D-7729-40BB-9763-7ECBF87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B87-0488-4A02-A907-02DC444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03B-11BD-47E2-84AB-8DE6F43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2BD-8119-4BF7-BD32-B211DD4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341-4F24-4788-956B-D2102F05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f/Death_Valley_Tourist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en/1/12/Amargosa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6/6e/Big_Horn_Sheep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a/af/Canis_latrans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e/Big_Horn_Sheep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en/d/de/Mountain_lion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upload.wikimedia.org/wikipedia/en/1/16/Mountlagunasmall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4/Northern_Spotted_Owl.USFWS-thumb.jpg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5/Bobcat_star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upload.wikimedia.org/wikipedia/commons/8/84/Jtree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e/Big_Horn_Sheep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7/77/Big-eared-townsend-fledermaus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upload.wikimedia.org/wikipedia/commons/f/f5/Bobcat_stare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commons/a/af/Canis_latrans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5/Bighorns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commons/8/8f/Vista_of_Anza_Borrego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upload.wikimedia.org/wikipedia/commons/0/05/Roadrunner2007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teinadler_Aquila_chrysaetos_closeup1_Richard_Bartz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upload.wikimedia.org/wikipedia/commons/6/6e/Big_Horn_Sheep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upload.wikimedia.org/wikipedia/en/e/e7/Crotalus_ruber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upload.wikimedia.org/wikipedia/en/2/22/D_Iguana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1/SIOpier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en.wikipedia.org/wiki/Image:LaJollaShores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upload.wikimedia.org/wikipedia/commons/2/27/Horn_shark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en.wikipedia.org/wiki/File:Woda-6_ubt.jpe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f/Crabe_de_Martinique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pload.wikimedia.org/wikipedia/commons/7/74/Lobster_NSRW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upload.wikimedia.org/wikipedia/commons/3/37/Sealuk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upload.wikimedia.org/wikipedia/en/a/a7/Montereybay.jpg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b/Beach_Monterey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upload.wikimedia.org/wikipedia/commons/5/58/Gray_whale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upload.wikimedia.org/wikipedia/commons/3/37/Killerwhales_jumping.jpg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upload.wikimedia.org/wikipedia/commons/a/a6/Bottlenose_Dolphin_KSC04pd0178.jpg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Sealuk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c/c4/52bear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Death Valley Touris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058920" cy="4300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Amargos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52840" y="190440"/>
            <a:ext cx="3171960" cy="422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Big Horn Shee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9360" y="4724280"/>
            <a:ext cx="2844720" cy="4267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Canis latran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800600"/>
            <a:ext cx="3073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File:Big Horn Shee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2845080" cy="426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File:Mountain li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19440" y="0"/>
            <a:ext cx="2933640" cy="457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File:Mountlagunasmal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724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400560" y="4629240"/>
            <a:ext cx="338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File:Northern Spotted Owl.USFWS-thum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280"/>
            <a:ext cx="285768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File:Kangaroo-rat.jpg"/>
          <p:cNvPicPr/>
          <p:nvPr/>
        </p:nvPicPr>
        <p:blipFill>
          <a:blip r:embed="rId3"/>
          <a:stretch/>
        </p:blipFill>
        <p:spPr>
          <a:xfrm>
            <a:off x="3657600" y="152280"/>
            <a:ext cx="2890800" cy="4343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File:Rana aurora.jpg"/>
          <p:cNvPicPr/>
          <p:nvPr/>
        </p:nvPicPr>
        <p:blipFill>
          <a:blip r:embed="rId4"/>
          <a:stretch/>
        </p:blipFill>
        <p:spPr>
          <a:xfrm>
            <a:off x="380880" y="4648320"/>
            <a:ext cx="2810160" cy="42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05320" y="5334120"/>
            <a:ext cx="32763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File:Thamnophis elegans terrestris (1).jpg"/>
          <p:cNvPicPr/>
          <p:nvPr/>
        </p:nvPicPr>
        <p:blipFill>
          <a:blip r:embed="rId1"/>
          <a:stretch/>
        </p:blipFill>
        <p:spPr>
          <a:xfrm>
            <a:off x="533520" y="152280"/>
            <a:ext cx="2415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ile:Bobcat sta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3143520" cy="426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57520" y="304920"/>
            <a:ext cx="3033720" cy="396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Jtre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320" y="4724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575160" y="464832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Big Horn Shee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360" y="22860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Big-eared-townsend-flederma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47960" y="76320"/>
            <a:ext cx="280512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ile:Bobcat star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724280"/>
            <a:ext cx="3143520" cy="426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File:Canis latran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800600"/>
            <a:ext cx="3073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Bighor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6440" y="76320"/>
            <a:ext cx="28306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File:Vista of Anza Borreg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1360" y="76320"/>
            <a:ext cx="3029040" cy="441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52280" y="4648320"/>
            <a:ext cx="3016440" cy="441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Roadrunner2007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4724280"/>
            <a:ext cx="340056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Steinadler Aquila chrysaetos closeup1 Richard Bartz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152280"/>
            <a:ext cx="332892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File:Big Horn Shee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2860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Crotalus rub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648320"/>
            <a:ext cx="3208320" cy="441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D Iguan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8006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SIOpi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62000"/>
            <a:ext cx="3191040" cy="425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5600" y="152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File:Horn shar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6483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11520" y="4724280"/>
            <a:ext cx="3246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File:Crabe de Martiniq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75760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File:Lobster NSR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0160" y="152280"/>
            <a:ext cx="2744640" cy="4191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File:Sealu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724280"/>
            <a:ext cx="3000240" cy="408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File:Montereyba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705200"/>
            <a:ext cx="32716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File:Beach Monte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ile:Gray w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28600"/>
            <a:ext cx="2773080" cy="434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ile:Killerwhales jumping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724280"/>
            <a:ext cx="291456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File:Bottlenose Dolphin KSC04pd0178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4648320"/>
            <a:ext cx="2916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File:Sealu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3000240" cy="408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581280" y="22860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72880" y="4724280"/>
            <a:ext cx="2927520" cy="417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File:52be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7080" y="5016600"/>
            <a:ext cx="3144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08-12-19T23:20:27Z</dcterms:modified>
  <cp:revision>5</cp:revision>
  <dc:subject/>
  <dc:title>Slide 1</dc:title>
</cp:coreProperties>
</file>